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7343-7B90-4E67-8D61-48ADD24190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2119E-1666-410E-B27B-FA0E53C5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151B-D3CB-4D5C-97E7-9BA8CC50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AC4D-4132-4B11-97F2-A653AB949D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A514B-BE68-4BE8-9A9C-A9644506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87580-950B-4586-8E5F-42F01041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1EE89-0685-414C-9413-2E4CC6039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9F1DA-FA55-45A3-A605-9149288E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3B26-BE7A-43ED-887A-3C980247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AA406-19C8-4BD9-9FFB-E8EF7453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0195-78C2-481D-94C7-4459068A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FBED-A2A5-4BDE-A408-5A09ADD4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48F4-FA2B-4E50-B2B7-2E9A66C049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传统的疝修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张力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-free hernioplast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腔镜疝修补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paroscopic inguinal herniorrhaph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和绞窄性疝的手术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7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腹股沟斜疝，在医生建议下行腹股沟斜疝修补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与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疼痛 与疝块嵌顿或绞窄、手术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  缺乏腹外疝病因、预防腹内压增高及促进术后康复的有关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切口感染、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引起腹内压增高的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疝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禁食、肠胃减压，输液纠正水、电解质及酸碱平衡失调、抗感染，必要时备血，做好急症手术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或绷带压深环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完善术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壁肌肉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服用阿司匹林的患者术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停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便秘者术前晚灌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手术室前，嘱其排空尿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腹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阴囊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复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外疝可分为易复性疝、难复性疝、嵌顿性疝及绞窄性疝等类型，先天性解剖结构异常和后天性腹壁薄弱或缺损是其发病的主要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腹股沟疝可分为腹股沟斜疝及腹股沟直疝两种，以斜疝多见。由于疝内容物突出路径的不同，其外观、是否容易嵌顿等均不同。其中绞窄性疝为疝内容物发生循环障碍甚至坏死，病情危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婴幼儿疝可采取保守治疗方法，成年人腹股沟疝可选择手术治疗。术式可采取疝囊高位结扎术、疝修补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应消除引起腹内压增高的因素，手术区严格备皮，做好灌肠和排尿的护理。术后预防腹内压升高，切口部位沙袋压迫，托起阴囊，预防阴囊水肿，做好切口的隔离保护。手术治疗的患者，出院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避免重体力劳动，避免生活和工作中引起腹内压增高的因素，积极治疗和预防各种导致腹内压增高的疾病，防止腹外疝的复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腹股沟斜疝、腹股沟直疝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不同类型腹股沟疝的治疗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腹股沟斜疝和直疝的临床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腹股沟疝的发病机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腹股沟疝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外疝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bdominal external hern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腹腔内的脏器或组织连同壁腹膜，经腹壁薄弱点或孔隙，向体表突出所形成。常见腹外疝有腹股沟疝、股疝、脐疝、切口疝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7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某小区保安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前出现阵发性腹胀、腹痛，伴有恶心呕吐症状，不能正常排便。上班站立时间较长或咳嗽时，腹股沟区出现明显肿块，自述疼痛。有慢性咳嗽病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腹股沟区有一圆形肿块向外凸出，咳嗽时痛感增强，手指压迫腹股沟韧带中点上方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处，肿块不再突出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　 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易复性斜疝：除腹股沟区有肿块，偶有胀痛外，并无其他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难复性斜疝：除胀痛稍重外，主要特点是疝块不能完全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斜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斜疝：疝块突然增大，并伴有明显疼痛，平卧或用手推送不能使疝块回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绞窄性斜疝：临床症状多严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股沟直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直立时，在腹股沟内侧端、耻骨结节外上方出现一半球形肿块，往往不伴有疼痛或其他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透光实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腹外疝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棉线束带法或绷带压深环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医用疝带的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嵌顿性疝的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8-10T04:33:29Z</dcterms:modified>
  <cp:revision>88</cp:revision>
  <dc:subject/>
  <dc:title>内科护理学</dc:title>
</cp:coreProperties>
</file>